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1A4-DE72-417B-A645-588C660A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DC1-0B24-410A-A165-C71DB88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A5C-0CA8-4B32-871B-8D5B4826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00D-9C3F-40B5-8466-1DEB4CCF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4599-1092-43E5-AAD4-B460D86E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13A-BDAE-439E-A887-7D87807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92C-BF3C-453D-B06C-7D42684F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8B98-4841-423F-B538-E9F23A88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A519-4FFA-4920-B6D7-E949D6C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1F2E-89DB-4B4C-8385-DF7A14C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2E2F-A877-45F6-A57C-DB7492C9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513-19A1-4944-888A-DF4E3AFB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6C3-3E16-4FC1-8886-A739E07E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DB31-A13B-492F-A8B7-2585AEC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4DF8-1B4E-4EC5-96A0-97E2C80C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AE50-54E5-4B65-847C-156ABF0B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B0EC-2F35-4D09-B4CB-9D93B358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DFC-0039-4AAE-BB6D-8DD35BAC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9B7-CE2B-412D-8918-4A6F2A9D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B60-B30F-483B-A99A-F9E9364F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C6A-01F6-4933-8734-ABA0385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FF2-59F1-437D-B769-EB5EB516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DD4-84C2-49A1-A23D-1B29D20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1AF-4EC6-4B26-90E8-E82AC2F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EB55-394C-4F3E-AA02-262FF9C1010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B45D-5E49-4CF0-94A3-251A936E912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724280"/>
            <a:ext cx="57243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ربي بتعرف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1280" y="278100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لّيتْ وتمنّيْ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مشي على دربَ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يت فيّي كُو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ين الرّسُل حَدَّك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263664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ي إلَك يا ر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 الطّفل للع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ا ريت فينا نح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ا قدّ ما بتريد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2707920"/>
            <a:ext cx="601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ْخِبزَك أنا جوع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ْخَمِرْتَك بالكا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تْناوَل القرب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روي العطش قدّاس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25:23Z</dcterms:created>
  <dc:creator>Charbel Azar</dc:creator>
  <dc:description/>
  <dc:language>en-US</dc:language>
  <cp:lastModifiedBy>-</cp:lastModifiedBy>
  <dcterms:modified xsi:type="dcterms:W3CDTF">2003-01-03T16:39:09Z</dcterms:modified>
  <cp:revision>4</cp:revision>
  <dc:subject/>
  <dc:title>ربّي بتعرِف إنّي بحِبَّك عا قدّ الكَون مِنَّك عطا ومنّي كلّ الصّلا اللي هَون</dc:title>
</cp:coreProperties>
</file>